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40F-8787-478C-BB75-6092F462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C1B-49EE-42D0-AD01-F12C52A4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85E-CE66-4162-86E0-F5FC71AE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393-CD8A-42B6-90AD-51E9B856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1AD-2EEF-4221-AED5-595BB38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503-B675-4943-A51F-F6F8215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46A-180E-462A-97B0-0355FEA6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DCC-C2F5-4F53-A973-6809E94D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791-FB8C-4346-AAFB-48A5E75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003-02EC-4B31-BFC8-CAD7679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4C4-2A76-4A59-B0DF-DD7D9BB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E51-4561-43E2-8307-F337AD85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0521-CB51-4D39-B112-9E13C8D0E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6 Keď viem, že Pán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mňa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 prísť úzkosť, hrôzy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emôcť vie aj hrobu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mň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úkryt, spásy hr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mi hrozil nepria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o mnou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, čo mi treba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je moji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08:39:08Z</dcterms:modified>
  <cp:revision>21</cp:revision>
  <dc:subject/>
  <dc:title>Je veľký náš Pán, on slávy je Kráľ Nech do všetkých strán  spev vrúcnych znie chvál.</dc:title>
</cp:coreProperties>
</file>